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A1D-67EC-4A92-8E5F-A9D238D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143-6266-47A8-9D1D-11F00E16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B8D-6CCE-48C0-AD4D-F8402DCC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981-2136-4FDB-A338-8D548AD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AED-D318-4F77-9365-19B3C491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F11-1481-4236-AD78-095F926C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C04-F239-4C81-B335-CCD7C30D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2E0-1C7C-4D44-94B3-5DD5084C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7CA-E0F4-4C56-9A4A-C41529AF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378-51E5-4467-A94D-4EAD689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6D6-F8C1-4363-8184-CB687F7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2A3-2F6D-4555-A208-2FA4D66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0FE7-E0FB-4064-A7F3-0D3BF9B72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milia Video Facebook Casa"/>
          <p:cNvPicPr/>
          <p:nvPr/>
        </p:nvPicPr>
        <p:blipFill>
          <a:blip r:embed="rId1"/>
          <a:stretch/>
        </p:blipFill>
        <p:spPr>
          <a:xfrm>
            <a:off x="6553080" y="304920"/>
            <a:ext cx="1782720" cy="1328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533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Canción Video Youtube: </a:t>
            </a:r>
            <a:r>
              <a:rPr b="0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La Familia-Facebook 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papá, el papá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La mamá, la mamá ¿___________ ___________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hermano, ____ _______________ 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_______ _______ ___________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la hermana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 _______________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bebe, el bebe ¿dónde está? _________ 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_________________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¿quién más?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0:23:33Z</dcterms:created>
  <dc:creator>Monica</dc:creator>
  <dc:description/>
  <dc:language>en-US</dc:language>
  <cp:lastModifiedBy>Monica</cp:lastModifiedBy>
  <dcterms:modified xsi:type="dcterms:W3CDTF">2014-03-11T10:29:45Z</dcterms:modified>
  <cp:revision>2</cp:revision>
  <dc:subject/>
  <dc:title>Canción Video Youtube: La Familia-Facebook  El papá, el papá ¿dónde está? Aquí está Gusto saludarte, gusto saludarte.  Ya se va, ya se va La mamá, la mamá ¿___________ ___________? Aquí está Gusto saludarte, gusto saludarte.  Ya se va, ya se va El hermano, ____ _______________  ¿dónde está? Aquí está Gusto saludarte, gusto saludarte.  _______ _______ ___________, ya se va __________________, la hermana ¿dónde está? Aquí está Gusto  _______________, gusto saludarte.  Ya se va, ya se va El bebe, el bebe ¿dónde está? _________ ______________ Gusto saludarte, _________________ saludarte.  Ya se va, ya se va __________________, _______________¿dónde está? Aquí está _________________________________________________________________________________________ ¿quién más?   __________________, _______________ ¿dónde está? Aquí está Gusto saludarte, gusto saludarte.  Ya se va, ya se va </dc:title>
</cp:coreProperties>
</file>